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74C2-720F-4631-8065-A1E9A6E1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498C-C108-4DC0-9902-3564F2C1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2DDCF-CCD4-4462-AA09-BD3B7E4A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B21DC-42C8-4378-897F-B9EFF750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AD6AE-73E8-4AC3-ABF7-E7219975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933A0-A5E9-4EF9-9555-589F5F40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DE638-A747-459C-B102-719F4C5C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6C626-03F4-406C-9DB1-881B4E9A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CDC0A-1F4E-4AAE-83E2-C25AB6DD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5EC7C-1F9C-41C0-91B4-EB45F9A3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2829E-50C9-4702-9F77-F8CB925F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7C31D-6B26-450A-BED8-6D19026D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C784-3FB9-4633-AE35-D276DD2B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331BC-E474-4E1F-99D2-952B49EF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B6E21-5DE2-4EE3-A228-42ABFA86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91358-D72B-4C44-A5D9-87ED5793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0BDA9-CF72-4F45-ABA9-99E25A42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DA392-BA1D-49F1-AA5C-C5D28749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FF40A-06B0-4F2A-A327-3CE3BD63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CFD93-4BD6-49CA-B090-3228474F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02B8B-D714-4AAD-A97B-C6EE9BD9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42027-C9EA-44E0-A475-7D85672F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4FEF8-8FA0-4287-9EFC-035EDF6C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DFBA-B169-4955-9496-FFED1088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F7C56-A136-4D11-9F86-AC757281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463EA-2439-4159-9D9B-B75EB8EF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8EF6F-D111-4443-9520-DE539D3F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7FF82-CA09-478E-BA9A-FD7EB9F5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80D5C-9865-4F66-81E5-E2A87DC1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8B42C-4090-48FD-8F0C-738CFC4B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B11D7-E8E8-436F-A5D3-FF8BB2A6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5CE69-51CA-4FF4-AC20-1EA40E89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769D9-03D1-4253-893C-C68DB7D9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84F7A-90D4-413F-98BD-67771061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8552-7520-4E62-A800-DE81D758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4BA6C-98B1-4712-80CE-2623B6A3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8C3ED-6111-4FF6-8C22-2DD91FEB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07223-E357-4A2F-AC56-8D97923B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03B95-4323-4436-8B56-8FF78D5E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71566-241C-46AC-984D-7E151886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EFCAD-D9A3-43F8-A377-CB640EC6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96DD8-9797-4EE1-9F46-A3DB0A63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25CD5-3AE0-42B4-B5C8-13CE18DE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7312F-7EA4-405D-805F-9C38C762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D93B7-C33B-404C-8968-64B1B93E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A6F9-F3C3-4E89-A407-961DB081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57F04-D86E-4B26-89E8-5DD93F11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0DB12-9CE8-45A9-AE6B-ECB2E539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D90C5-FE0B-4416-9F96-A00F92F6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54C93-1D3C-463F-B3D5-52200C38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C02FE-B6D3-4DB3-B8B1-50F8B032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3AF0-AA31-4949-8369-E5B3C9F0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D4EA-0A62-4D7D-965F-500B7831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D2E0-A9AA-4618-AEEB-D5E62AE2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07DB-5F51-4548-B805-4806E7BA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E286-9D86-4177-AB67-764109EA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E516-60E4-48BE-9EE1-371C3E91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6A2A-B4D8-474B-A634-96BA7C7F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0CB6-8429-4370-90AB-A629D856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457F-8EF0-4E9D-91A1-E1E3A0C3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0C2C-B8A3-4F48-B009-DDB5AE7A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F016-9C8F-400D-BAFE-0119F043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B66DE-90E7-4917-8838-E8C5AC39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E510D-1E7F-45A6-B89C-BB699A78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C27C4-A3A0-4A1E-BFDD-817BB0D4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AD501-DD95-4710-97DD-0FD0A451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B2723-2EAC-4D9F-BB6F-9C2811FA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BF09-5F65-43E4-B9E3-02A220D1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1D46D-E92C-4853-8C67-E496E6A2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E1C04-0140-4EE4-AA9C-ED5FC25B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C102F-97C1-4D66-8BFC-641CEA58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2BC54-0E7A-451B-9602-52DB7563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BB75C-BAF1-4AD5-89A3-D6CC85AD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CA92B-3B1C-4234-B138-DD472A63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CB3AB-FA08-4CB8-A5E4-6E3DAB00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59917-66F8-4BFB-9441-016E4CB4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A8B21-BA3B-4BC5-B9EF-0EDFE581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B2DC4-F063-413B-9252-8AFCEAB4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D2F4-A843-4B1C-98C8-E87B287F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6C05D-8A69-4AFB-9F64-970BA0A2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30BCC-45C0-43BC-82C8-12832A55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1B21E-2915-4A64-AD9D-D5870C19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6947B-FAFB-46FF-AF59-B02CA2CF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F4066-F5C4-4BDB-B7E8-44A269A3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4DAD2-F80C-4684-BA35-D1C972BB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7AB45-DE87-404F-92A8-98A90FF7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916B5-B452-478E-B916-6D44A71D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0A8B3-E891-454F-B116-FC4D9F81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73E7A-BAAD-422D-A4CD-D205FFD3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06CB-AB98-4751-84C0-9F613B2A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E75CC-95DB-4E62-B8B2-B932741D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3A72C-A8CD-405C-A365-11575E10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EC0F5-A0F3-4A2C-BBD6-98E382BD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870E3-A942-4895-9B13-1D6976C2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B5CE8-88C6-4CCB-A319-06999AC1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4B028-A46F-4DF2-9AEB-5F012636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C5314-955F-49FA-A1EA-26D7D319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19469-0179-4E66-B464-CF8DAF8E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C37D5-851C-4AF6-BABA-36BAD01F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94124-9F7E-42AA-BDFC-2FD524D5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EDCB-A2CC-4532-AB38-F7A26531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12B14-80BE-40D0-AA15-50637736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6689C-4FF5-4C55-A156-9D5B81B88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207A1-F36A-40FE-B23D-7FDD4834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164FB-C689-45D8-BD8B-8D47A207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70556-6E16-482F-A86E-4854DE1B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07875-537A-47D9-824E-06352FDA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61953-5B00-4A77-BD83-2914C7F2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412BD-F558-4627-87E6-4C47A7C5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B87CD-30A2-4196-96C6-30B925E9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4FBB7-D9B9-4DA1-A96A-A5E8517A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69C7-E989-4CF1-BACF-8EB9CE18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A0F0D-18DF-4A95-A330-2B7B8696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191BF-5F19-417F-8779-E8344024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609D8-C342-47D5-986F-EA806433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98445-4138-4608-8816-18EB2ACC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07DC0-4C8D-45CE-938A-A4A21FB9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C6780-6C59-4F07-A2BF-9A3B9402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CF78B-A6FE-4D27-8087-1A47001D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B5D61-1392-4092-80D8-8E1BAFEA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7DFB6-7686-46F8-A125-91068957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91B4F-6153-49F0-BFFF-E2CEE057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FA4F-DBF4-4FAB-ADFD-17157281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86CD6-D4D9-4BE8-ABBF-073CA0B9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97105-18BA-42B8-9BDF-16EA2162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BCBCB-9A5D-474E-9B16-839E9E5B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88BED-DFDD-4009-87ED-48962675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61DCB-E54B-4E33-BB3F-E702EF7D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C0F56-ED27-4632-B524-84218EF4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544BE-DE34-4C88-AD70-A2A81E6F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D34D5-EB47-4310-8859-2FE27C9D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4382A-6F91-4336-80DB-2BEADDE3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B7814-5421-4F9B-98DA-E8234664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D087-2C70-4062-8424-DD60E40F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84C6B-0914-4CC6-B086-16C8952E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9AA0C-7FD7-486E-96FB-F5521CB0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BE199-BB98-42D2-8EB5-8885BA85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84C51-D587-41EA-81FD-4057C607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B4949-43BA-4DBE-9F83-6B5208C8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5A04A-0E7D-47F7-84AE-A0603449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FFE04-809B-42E0-8BCE-C65CC092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2BF7A-CE01-439D-8FE4-0304CAD7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33BDB-1C92-4A8F-A157-9FF31D01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48DF8-B6B4-43AE-9D8E-708A0240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B46C-7EC6-43EE-8A05-23402627371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5126-E5B2-4C68-84FE-E864216097A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36A9-2D1E-4949-9A3C-33DD2A66298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01BE-8669-4303-89CF-72087C420AE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D189-9A47-4946-A917-5F1E707BEC6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E776-640D-43C9-93C3-75BB1B6BFF8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30C4-1EEA-424E-8644-3F7258B1191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C91F-8B05-4D89-80C4-EB3E7458D16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4D27-D1A1-4DAA-8CF8-91F8ED50A4B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7A65-03B3-4E74-B568-22110863BC8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275E-1A08-4406-B107-19D8E38BB30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1031-F9FD-4E9A-807E-AF414D8AAD5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2 Ako hviezdy jasný sv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o hviezdy jasný svi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del k púti povzbud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ých, čo Spásu hľadať š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ju v jasliach nenašli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 nech, Pane, pravdy j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rou k tebe vedie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ť, čo krok zrýchlil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divom dych tajil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nad zjavom užasl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k Dieťaťu pokľakli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á nech stále nieti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ývať Pána, kým je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aždý z nich tam vzácny dar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ložil ako na oltár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ten príklad vzneše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hriechu a poškvr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 aj pre nás vzorom by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o máme Pána ct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 svätý, deň čo de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dolávaj v nás nechuť, lieň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, nech túžba nezhy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rieť raz tvoje spase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m, kde žiadna žiara hviezd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bude nás musieť vies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3T19:02:29Z</dcterms:modified>
  <cp:revision>30</cp:revision>
  <dc:subject/>
  <dc:title>Je veľký náš Pán, on slávy je Kráľ Nech do všetkých strán  spev vrúcnych znie chvál.</dc:title>
</cp:coreProperties>
</file>